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918-92F2-48A9-B829-467E3B83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F733-3BEB-4539-835E-78762881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256-456A-457C-8779-81617278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D27F-914B-4BE8-996D-3B5CE82E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06C-B06D-4EEC-9F2B-11839C0D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ED5F-208F-42A8-9B8E-9F47735D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A40-2BDF-42E6-B9F6-9A6290702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466-C0B2-4C35-AF74-D539622F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76B-8585-4FEF-B908-5D8B58B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B9A-295A-4D93-8643-1B3DB4FD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0E1-4092-4418-94CE-8C80F83E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3920" y="142920"/>
            <a:ext cx="747252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7F6-D11B-41C2-BD62-49D356F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94E-4F42-4DFB-9293-6F2AFD6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0B0-25AA-4BA1-BB75-2E05B00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898-F68D-4E6E-AA87-7697D79A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3920" y="142920"/>
            <a:ext cx="747252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124-6B09-45D8-AE1C-1A4C58F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88F-138A-4548-88A7-E46900F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B39-E3B1-47D1-9180-B07BA05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03D-6095-4ADD-834D-BDE990D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92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92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823-4EEA-4DB0-A291-8E1C2CC4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odi_circle_logo_blue.jpg"/>
          <p:cNvPicPr/>
          <p:nvPr/>
        </p:nvPicPr>
        <p:blipFill>
          <a:blip r:embed="rId2"/>
          <a:stretch/>
        </p:blipFill>
        <p:spPr>
          <a:xfrm>
            <a:off x="214200" y="21420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odi_circle_logo_blue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3920" y="142920"/>
            <a:ext cx="7472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2920" y="1628280"/>
            <a:ext cx="428652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Interview techniques &amp; tips</a:t>
            </a:r>
            <a:endParaRPr b="0" lang="en-US" sz="40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427032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MetaMedium-Roman"/>
              </a:rPr>
              <a:t>CPWF Training Workshop, 8- 12 November 2010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572000" y="3068640"/>
            <a:ext cx="370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Franklin Gothic Medium"/>
              </a:rPr>
              <a:t>Group work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8362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nk about your own experience of conducting interviews or focus groups: the techniques you used, what worked well and what didn’t work so well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ainstorm  ‘Dos and Don’ts’ for interviews on how to: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roduce yourself and the research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age expecta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tain unbiased answer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 all the details and information you need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y other ways to make interviews successfu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alibri"/>
              </a:rPr>
              <a:t>Interview dos and don’ts</a:t>
            </a:r>
            <a:endParaRPr b="0" lang="en-US" sz="32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395280" y="12492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572000" y="1197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859280" y="1844640"/>
            <a:ext cx="3960720" cy="330552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terrup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informants or each o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leading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ccept the first answer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open-ended questions: probe for more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upply answer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an informant who is hesita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dicate disbelief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y criticising or even just smi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show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isapprov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r distaste about local conditions or drinks or food off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395280" y="1792440"/>
            <a:ext cx="4176720" cy="447336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laxed </a:t>
            </a:r>
            <a:r>
              <a:rPr b="0" lang="en-GB" sz="1600" spc="-1" strike="noStrike">
                <a:solidFill>
                  <a:srgbClr val="15095f"/>
                </a:solidFill>
                <a:latin typeface="Calibri"/>
              </a:rPr>
              <a:t>and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 op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ry to put people at e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xplain clearly who you are and you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bjectiv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roduce what the interview will cover and roughly how long it will t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aware tha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body language and seating arrangement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will affect the inter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Explai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each question clearly, check the respondent has understood, and rephrase it if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open-ended questions, probe for more information using the six helpers: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what, when, where, who, why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how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ctive listening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Interview dos and don’ts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95280" y="1177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0" y="11048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43280" y="1844640"/>
            <a:ext cx="3961080" cy="272160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questions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that combine two queri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e.g. “Are you involved in planning soil water conservation and how effective do you think the process is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ever let the informant feel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ross-examin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sk abou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ensitive informatio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front of a group of onloo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95280" y="1792440"/>
            <a:ext cx="4032360" cy="447336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sider responses: are they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fact, opinio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umour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Query respons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at seem irrational or unlik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valuate th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liabil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f the inter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ake a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eutral attitud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listen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carefully and pay attention t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on-verbal sign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pen-minde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about answers you did not exp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 prepared f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goo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 ba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terviews. If it is going badly, conclude politely and le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Before each interview,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dentify knowledge ga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in order to focus on these iss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3920" y="131400"/>
            <a:ext cx="74725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Focus Group dos and don’ts</a:t>
            </a:r>
            <a:endParaRPr b="0" lang="en-US" sz="36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95280" y="1123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0" y="1052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643280" y="1700280"/>
            <a:ext cx="3961080" cy="2429640"/>
          </a:xfrm>
          <a:prstGeom prst="rect">
            <a:avLst/>
          </a:prstGeom>
          <a:solidFill>
            <a:srgbClr val="c000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ombine too many topic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 one focus group: stick to one su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let the discussion g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ff topic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(e.g. use a ‘parking lot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Don’t allow a few participants to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ominate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onversation or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intimidat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nvolve more than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10-12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395280" y="1628640"/>
            <a:ext cx="4032360" cy="3889440"/>
          </a:xfrm>
          <a:prstGeom prst="rect">
            <a:avLst/>
          </a:prstGeom>
          <a:solidFill>
            <a:srgbClr val="00b05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sk and encourage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ll participant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speak and give their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t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ground rule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participants should </a:t>
            </a: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not talk over each other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llow the group time to discus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questions and challenge each others’ ideas. This is a way for mistakes to be corrected, and for different views to come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tay focused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make sure you cover the check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1509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flect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back on whether the group dynamic was successful. If not, change it nex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3920" y="260280"/>
            <a:ext cx="7472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op tip #1 Always probe for more information!</a:t>
            </a:r>
            <a:endParaRPr b="0" lang="en-US" sz="28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0" name="TextBox 38"/>
          <p:cNvSpPr/>
          <p:nvPr/>
        </p:nvSpPr>
        <p:spPr>
          <a:xfrm>
            <a:off x="539640" y="3379680"/>
            <a:ext cx="7777440" cy="320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sking </a:t>
            </a:r>
            <a:r>
              <a:rPr b="1" lang="en-US" sz="1800" spc="-1" strike="noStrike">
                <a:solidFill>
                  <a:srgbClr val="15095f"/>
                </a:solidFill>
                <a:latin typeface="Calibri"/>
              </a:rPr>
              <a:t>open-end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questions, the first answer given does not usually tell you the whole s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e for more information using the </a:t>
            </a:r>
            <a:r>
              <a:rPr b="1" lang="en-US" sz="1800" spc="-1" strike="noStrike">
                <a:solidFill>
                  <a:srgbClr val="15095f"/>
                </a:solidFill>
                <a:latin typeface="Calibri"/>
              </a:rPr>
              <a:t>six help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2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3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4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5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6)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15095f"/>
                </a:solidFill>
                <a:latin typeface="Calibri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66560" y="1268280"/>
            <a:ext cx="8353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15095f"/>
                </a:solidFill>
                <a:latin typeface="Calibri"/>
              </a:rPr>
              <a:t>Questionnaires and checklists may consist of closed-ended or open-ended questions, or a mix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Closed-ended question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courage a short or single-word answer, e.g. Yes or 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Open-ended question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re designed to encourage a full, meaningful answer using the subject's own knowledge and/or feel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4280" y="131400"/>
            <a:ext cx="7678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op tip #2 Challenge contradictory or unclear answers</a:t>
            </a:r>
            <a:endParaRPr b="0" lang="en-US" sz="28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119664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5095f"/>
                </a:solidFill>
                <a:latin typeface="Calibri"/>
              </a:rPr>
              <a:t>If you are given information which is unclear or seems contradictory, challenge the respondent to clarify (politely of course!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t could be because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You have misunderstood the respons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other factors which you are not aware of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misunderstood the questi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does not really know the answer, is guessing or is not being truthfu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iques for clarifying during the interview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Double check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understood the question, and if necessary ask the same question in a different way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Ask for exampl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ich illustrate their answer, or suggest one yourself: ‘Suppose that…’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Summaris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their answer back to them to make sure you have understood it correctly: ‘Let me check I have understood what you are saying…’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509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5095f"/>
                </a:solidFill>
                <a:latin typeface="Calibri"/>
              </a:rPr>
              <a:t>Reassure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interviewee that they do not have to answer every question if they don’t know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learly explaining the purpose of the interview at the start, and putting the interviewee at ease, both help to avoid untruthful answer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5:16:31Z</dcterms:created>
  <dc:creator>pleask</dc:creator>
  <dc:description/>
  <dc:language>en-US</dc:language>
  <cp:lastModifiedBy>kergano</cp:lastModifiedBy>
  <cp:lastPrinted>2006-04-07T10:19:46Z</cp:lastPrinted>
  <dcterms:modified xsi:type="dcterms:W3CDTF">2010-11-09T12:37:49Z</dcterms:modified>
  <cp:revision>106</cp:revision>
  <dc:subject/>
  <dc:title>Overseas Development Institu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">
    <vt:lpwstr>0</vt:lpwstr>
  </property>
  <property fmtid="{D5CDD505-2E9C-101B-9397-08002B2CF9AE}" pid="3" name="Audience">
    <vt:lpwstr>1</vt:lpwstr>
  </property>
  <property fmtid="{D5CDD505-2E9C-101B-9397-08002B2CF9AE}" pid="4" name="Category 2">
    <vt:lpwstr>General</vt:lpwstr>
  </property>
  <property fmtid="{D5CDD505-2E9C-101B-9397-08002B2CF9AE}" pid="5" name="Category0">
    <vt:lpwstr>Outputs</vt:lpwstr>
  </property>
  <property fmtid="{D5CDD505-2E9C-101B-9397-08002B2CF9AE}" pid="6" name="ContentType">
    <vt:lpwstr>Document</vt:lpwstr>
  </property>
  <property fmtid="{D5CDD505-2E9C-101B-9397-08002B2CF9AE}" pid="7" name="Country">
    <vt:lpwstr>(none)</vt:lpwstr>
  </property>
  <property fmtid="{D5CDD505-2E9C-101B-9397-08002B2CF9AE}" pid="8" name="Description0">
    <vt:lpwstr>Powerpoint template for staff</vt:lpwstr>
  </property>
  <property fmtid="{D5CDD505-2E9C-101B-9397-08002B2CF9AE}" pid="9" name="Key">
    <vt:lpwstr>0</vt:lpwstr>
  </property>
  <property fmtid="{D5CDD505-2E9C-101B-9397-08002B2CF9AE}" pid="10" name="Source">
    <vt:lpwstr>Staff</vt:lpwstr>
  </property>
  <property fmtid="{D5CDD505-2E9C-101B-9397-08002B2CF9AE}" pid="11" name="Status">
    <vt:lpwstr>Final</vt:lpwstr>
  </property>
  <property fmtid="{D5CDD505-2E9C-101B-9397-08002B2CF9AE}" pid="12" name="Target Audiences">
    <vt:lpwstr/>
  </property>
  <property fmtid="{D5CDD505-2E9C-101B-9397-08002B2CF9AE}" pid="13" name="Theme">
    <vt:lpwstr/>
  </property>
  <property fmtid="{D5CDD505-2E9C-101B-9397-08002B2CF9AE}" pid="14" name="World Region">
    <vt:lpwstr>(none)</vt:lpwstr>
  </property>
</Properties>
</file>